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9EE71-9823-425A-9601-3261E537F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BFEB7-3D21-4BF6-83F4-BD5BDA572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C2879-1322-410F-A80C-7F5EC69CC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414D-05C9-4FB8-87B4-D4F0824F0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F079-E632-4810-9706-976B0ECE5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1074-DBDE-4A82-95E7-E5D7F31CB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D6EE-C214-439D-964E-0F2084F9B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4538-C93F-4931-8829-7FA79DC3E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B54B-FD5B-453C-B3EA-D0E3B04FE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596C-3CB6-4706-82D0-A70498FE4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E0E2-F38E-4674-9C27-FBDA563F2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F8B7-F654-4B3D-9AEC-249379150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DA61-A9D7-4F91-9677-17487BCB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541C-A5EA-4081-B4B9-BF103716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B429-AE99-45B0-8FE5-37AA8BB9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B864D-198D-44BD-B7FE-CAFC011070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irela Gu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752840" cy="8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Mi llamo Mirela. Yo tengo catorce años. Yo soy dulce, amigable y cuidado . Yo vivo en Queens. Yo tengo dos hermanas. Adi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si. ¿Qué haces?                                                                 Natali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ien.  Hizo tu haces  de matematicas tarea?                               Tasha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19720"/>
            <a:ext cx="641160" cy="9334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Hola amiga!  ¿Cómo estás?                                                            Natalie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819520" y="4495680"/>
            <a:ext cx="3733560" cy="3812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Nada tarea                                                                             Tash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 Dondé  hizo tú  hago de  tarea?                                                                            Natali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su es fácil.  ¿eres tú en de fiesta 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anos dias ¿qué hace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irela Gu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0"/>
          <p:cNvSpPr/>
          <p:nvPr/>
        </p:nvSpPr>
        <p:spPr>
          <a:xfrm>
            <a:off x="3124080" y="175248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57"/>
          <p:cNvSpPr/>
          <p:nvPr/>
        </p:nvSpPr>
        <p:spPr>
          <a:xfrm>
            <a:off x="152280" y="3581280"/>
            <a:ext cx="1752840" cy="8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Mi llamo Mirela. Yo tengo catorce años. Yo soy dulce, amigable y cuidado . Yo vivo en Queens. Yo tengo dos hermanas. Adi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142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144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146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27"/>
          <p:cNvSpPr/>
          <p:nvPr/>
        </p:nvSpPr>
        <p:spPr>
          <a:xfrm>
            <a:off x="2743200" y="2514600"/>
            <a:ext cx="380988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 Tú quiero a ir 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19720"/>
            <a:ext cx="641160" cy="93348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27"/>
          <p:cNvSpPr/>
          <p:nvPr/>
        </p:nvSpPr>
        <p:spPr>
          <a:xfrm>
            <a:off x="2666880" y="3352680"/>
            <a:ext cx="3733920" cy="4636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Sí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27"/>
          <p:cNvSpPr/>
          <p:nvPr/>
        </p:nvSpPr>
        <p:spPr>
          <a:xfrm>
            <a:off x="2743200" y="434340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343434"/>
                </a:solidFill>
                <a:latin typeface="Arial"/>
              </a:rPr>
              <a:t>Hablo a tú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anos dias ¿qué hace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59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14:26:16Z</dcterms:created>
  <dc:creator>FriscoISD</dc:creator>
  <dc:description/>
  <dc:language>en-US</dc:language>
  <cp:lastModifiedBy>User</cp:lastModifiedBy>
  <dcterms:modified xsi:type="dcterms:W3CDTF">2013-01-02T15:00:38Z</dcterms:modified>
  <cp:revision>114</cp:revision>
  <dc:subject/>
  <dc:title>Profile</dc:title>
</cp:coreProperties>
</file>